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1.png" ContentType="image/png"/>
  <Override PartName="/ppt/media/image1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7.png" ContentType="image/png"/>
  <Override PartName="/ppt/media/image1.jpeg" ContentType="image/jpeg"/>
  <Override PartName="/ppt/media/image18.pct" ContentType="image/x-pict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A8A-8B17-4244-B7EB-D3D017B02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hipathic =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363C-09DC-42A3-8578-CD1C3AC1B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626C-A636-40C3-9ADF-5B6D7ED3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AE5A-42BF-446D-A357-733FADB5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0CC0-62AD-45C1-83E3-60D01EC8E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256B-8792-4E40-99B8-37B314D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4FF2-C940-4852-86E0-0476C6FC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CB1-CFAE-437B-BA5E-8125C8AA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EF3D-21F6-4B70-9AD9-65BD9938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D809-B267-43CE-B484-46956EC5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3DC9-13E2-4E85-B730-67A9F10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7EC1-4898-490D-A119-5BBBD79C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6744-0A90-44C5-940E-534E855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26F2-6000-4C76-8E8B-9337AC328E1A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ers/kfoglia/Kim&apos;s%20NEW%20WORK/Division%20Ave%20-%20Levittown/%20Campbell%20CDs/BIOLOGY6eCIPLchapters1-17/ImageLibrary1-17/05-Macromolecules/05-10-Fats.mov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-987" t="0" r="51122" b="48674"/>
          <a:stretch/>
        </p:blipFill>
        <p:spPr>
          <a:xfrm>
            <a:off x="5492880" y="457200"/>
            <a:ext cx="365112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096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438280" y="4114800"/>
            <a:ext cx="39625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32674" b="11856"/>
          <a:stretch/>
        </p:blipFill>
        <p:spPr>
          <a:xfrm>
            <a:off x="4572000" y="3052800"/>
            <a:ext cx="4522680" cy="3728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or hydrophilic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ty acid tails =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hydrophil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ea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al “personalit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632840"/>
            <a:ext cx="396252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interaction with H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 is complex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&amp; </a:t>
            </a:r>
            <a:r>
              <a:rPr b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very important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 heads attracted to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lf-assemble into aggregate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icel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poso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724280" y="4608360"/>
          <a:ext cx="4103640" cy="202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4608360"/>
                    <a:ext cx="41036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define outside vs. insid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o we find phospholipids in cells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9604" t="57006" r="0" b="8678"/>
          <a:stretch/>
        </p:blipFill>
        <p:spPr>
          <a:xfrm>
            <a:off x="380880" y="3124080"/>
            <a:ext cx="3353040" cy="139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83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62520" y="29527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i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heads on outside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ob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cholesterol, sex hormo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fused C ring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teroids created by atta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nctional groups to rin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3200400" y="4038480"/>
            <a:ext cx="5753160" cy="2605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97280" y="42663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in 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36760" y="163368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86048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2280" y="4575240"/>
            <a:ext cx="3048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a big difference a little atom can make!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5738760" cy="4303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24480" y="1371600"/>
            <a:ext cx="281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lps keep cell  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  membrane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  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lo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ydrocarbon chai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e grou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g molecules made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unit smaller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45600" r="6745" b="7200"/>
          <a:stretch/>
        </p:blipFill>
        <p:spPr>
          <a:xfrm rot="5400000">
            <a:off x="5564520" y="3278880"/>
            <a:ext cx="44654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(3C alcohol) + 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3429000"/>
            <a:ext cx="6477120" cy="248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12400" y="58662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43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2" marL="971280" indent="-19404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OOH group at “head”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ster linkage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2209680" y="1295280"/>
            <a:ext cx="4940280" cy="5351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very ric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ushion orga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sulates bod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828800"/>
            <a:ext cx="18288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286000"/>
            <a:ext cx="259092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45600" r="6745" b="7200"/>
          <a:stretch/>
        </p:blipFill>
        <p:spPr>
          <a:xfrm>
            <a:off x="4678200" y="4317840"/>
            <a:ext cx="4465800" cy="254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3048120"/>
            <a:ext cx="3648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quid at room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ouble bonded 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event the molecule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om packing tightly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50824" t="0" r="0" b="4925"/>
          <a:stretch/>
        </p:blipFill>
        <p:spPr>
          <a:xfrm>
            <a:off x="5308560" y="2728800"/>
            <a:ext cx="383544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negativel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ther smal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ma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so be attach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enine (ATP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32404" b="5714"/>
          <a:stretch/>
        </p:blipFill>
        <p:spPr>
          <a:xfrm>
            <a:off x="4218120" y="2521080"/>
            <a:ext cx="484956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6T02:37:27Z</cp:lastPrinted>
  <dcterms:modified xsi:type="dcterms:W3CDTF">2005-09-16T02:55:21Z</dcterms:modified>
  <cp:revision>469</cp:revision>
  <dc:subject>Introduction to the Internet &amp; Web sites</dc:subject>
  <dc:title>Small Business Success on the Web</dc:title>
</cp:coreProperties>
</file>